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BB7-486C-40E3-BE75-24A6AFDD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68D-727E-4DC4-8048-2BFFFD1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E6C-23A5-42FE-99BD-66F385FE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6099-4D65-4E8F-B37E-C72453D5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51A-F237-4043-B5D6-B1F9E84D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CEBB-4879-496A-B8A1-447DEE93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CDC1-496A-4067-878D-8A5F06DB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1A2-D577-4353-BE02-184613D0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B79-D406-45BF-AD6B-3A74F54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74B-F02B-4D01-84AA-C45ED6AC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67B-AAC2-47CA-838A-3DF38B7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39A9-05A8-4E9D-A786-8A0C13C0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B034-C954-4219-961D-9C4C7408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equalities Involving Quadratic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3280" y="3124080"/>
            <a:ext cx="891072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764560" cy="42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378240" cy="498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4796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304920"/>
            <a:ext cx="5156280" cy="58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4443480" cy="6746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4520" y="1143000"/>
            <a:ext cx="8764560" cy="498240"/>
            <a:chOff x="74520" y="1143000"/>
            <a:chExt cx="8764560" cy="498240"/>
          </a:xfrm>
        </p:grpSpPr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74520" y="1143000"/>
              <a:ext cx="876456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626000" y="1168200"/>
              <a:ext cx="674640" cy="473040"/>
            </a:xfrm>
            <a:custGeom>
              <a:avLst/>
              <a:gdLst/>
              <a:ahLst/>
              <a:rect l="l" t="t" r="r" b="b"/>
              <a:pathLst>
                <a:path w="1875" h="1316">
                  <a:moveTo>
                    <a:pt x="13854" y="3502"/>
                  </a:moveTo>
                  <a:cubicBezTo>
                    <a:pt x="13846" y="3497"/>
                    <a:pt x="13843" y="3485"/>
                    <a:pt x="13834" y="3480"/>
                  </a:cubicBezTo>
                  <a:cubicBezTo>
                    <a:pt x="13815" y="3469"/>
                    <a:pt x="13798" y="3464"/>
                    <a:pt x="13777" y="3460"/>
                  </a:cubicBezTo>
                  <a:cubicBezTo>
                    <a:pt x="13715" y="3447"/>
                    <a:pt x="13654" y="3474"/>
                    <a:pt x="13595" y="3492"/>
                  </a:cubicBezTo>
                  <a:cubicBezTo>
                    <a:pt x="13504" y="3519"/>
                    <a:pt x="13432" y="3561"/>
                    <a:pt x="13361" y="3625"/>
                  </a:cubicBezTo>
                  <a:cubicBezTo>
                    <a:pt x="13341" y="3643"/>
                    <a:pt x="13321" y="3663"/>
                    <a:pt x="13302" y="3682"/>
                  </a:cubicBezTo>
                  <a:cubicBezTo>
                    <a:pt x="13267" y="3717"/>
                    <a:pt x="13236" y="3755"/>
                    <a:pt x="13203" y="3792"/>
                  </a:cubicBezTo>
                  <a:cubicBezTo>
                    <a:pt x="13176" y="3822"/>
                    <a:pt x="13144" y="3851"/>
                    <a:pt x="13119" y="3882"/>
                  </a:cubicBezTo>
                  <a:cubicBezTo>
                    <a:pt x="13108" y="3896"/>
                    <a:pt x="13098" y="3909"/>
                    <a:pt x="13090" y="3924"/>
                  </a:cubicBezTo>
                  <a:cubicBezTo>
                    <a:pt x="13083" y="3938"/>
                    <a:pt x="13075" y="3948"/>
                    <a:pt x="13071" y="3963"/>
                  </a:cubicBezTo>
                  <a:cubicBezTo>
                    <a:pt x="13062" y="3998"/>
                    <a:pt x="13069" y="4038"/>
                    <a:pt x="13073" y="4072"/>
                  </a:cubicBezTo>
                  <a:cubicBezTo>
                    <a:pt x="13080" y="4136"/>
                    <a:pt x="13103" y="4202"/>
                    <a:pt x="13126" y="4262"/>
                  </a:cubicBezTo>
                  <a:cubicBezTo>
                    <a:pt x="13137" y="4291"/>
                    <a:pt x="13150" y="4319"/>
                    <a:pt x="13167" y="4346"/>
                  </a:cubicBezTo>
                  <a:cubicBezTo>
                    <a:pt x="13180" y="4366"/>
                    <a:pt x="13195" y="4386"/>
                    <a:pt x="13209" y="4405"/>
                  </a:cubicBezTo>
                  <a:cubicBezTo>
                    <a:pt x="13227" y="4429"/>
                    <a:pt x="13245" y="4455"/>
                    <a:pt x="13266" y="4476"/>
                  </a:cubicBezTo>
                  <a:cubicBezTo>
                    <a:pt x="13284" y="4494"/>
                    <a:pt x="13308" y="4509"/>
                    <a:pt x="13328" y="4526"/>
                  </a:cubicBezTo>
                  <a:cubicBezTo>
                    <a:pt x="13463" y="4640"/>
                    <a:pt x="13663" y="4701"/>
                    <a:pt x="13833" y="4740"/>
                  </a:cubicBezTo>
                  <a:cubicBezTo>
                    <a:pt x="13943" y="4765"/>
                    <a:pt x="14056" y="4767"/>
                    <a:pt x="14168" y="4768"/>
                  </a:cubicBezTo>
                  <a:cubicBezTo>
                    <a:pt x="14227" y="4768"/>
                    <a:pt x="14282" y="4761"/>
                    <a:pt x="14340" y="4748"/>
                  </a:cubicBezTo>
                  <a:cubicBezTo>
                    <a:pt x="14470" y="4719"/>
                    <a:pt x="14600" y="4685"/>
                    <a:pt x="14713" y="4613"/>
                  </a:cubicBezTo>
                  <a:cubicBezTo>
                    <a:pt x="14777" y="4572"/>
                    <a:pt x="14834" y="4525"/>
                    <a:pt x="14869" y="4458"/>
                  </a:cubicBezTo>
                  <a:cubicBezTo>
                    <a:pt x="14883" y="4430"/>
                    <a:pt x="14896" y="4397"/>
                    <a:pt x="14905" y="4368"/>
                  </a:cubicBezTo>
                  <a:cubicBezTo>
                    <a:pt x="14912" y="4346"/>
                    <a:pt x="14920" y="4321"/>
                    <a:pt x="14926" y="4299"/>
                  </a:cubicBezTo>
                  <a:cubicBezTo>
                    <a:pt x="14934" y="4266"/>
                    <a:pt x="14939" y="4229"/>
                    <a:pt x="14941" y="4195"/>
                  </a:cubicBezTo>
                  <a:cubicBezTo>
                    <a:pt x="14945" y="4122"/>
                    <a:pt x="14935" y="4046"/>
                    <a:pt x="14928" y="3974"/>
                  </a:cubicBezTo>
                  <a:cubicBezTo>
                    <a:pt x="14925" y="3944"/>
                    <a:pt x="14921" y="3914"/>
                    <a:pt x="14915" y="3884"/>
                  </a:cubicBezTo>
                  <a:cubicBezTo>
                    <a:pt x="14909" y="3853"/>
                    <a:pt x="14900" y="3822"/>
                    <a:pt x="14891" y="3792"/>
                  </a:cubicBezTo>
                  <a:cubicBezTo>
                    <a:pt x="14884" y="3769"/>
                    <a:pt x="14879" y="3748"/>
                    <a:pt x="14868" y="3726"/>
                  </a:cubicBezTo>
                  <a:cubicBezTo>
                    <a:pt x="14857" y="3704"/>
                    <a:pt x="14843" y="3686"/>
                    <a:pt x="14826" y="3668"/>
                  </a:cubicBezTo>
                  <a:cubicBezTo>
                    <a:pt x="14782" y="3620"/>
                    <a:pt x="14724" y="3594"/>
                    <a:pt x="14665" y="3570"/>
                  </a:cubicBezTo>
                  <a:cubicBezTo>
                    <a:pt x="14554" y="3526"/>
                    <a:pt x="14429" y="3515"/>
                    <a:pt x="14311" y="3510"/>
                  </a:cubicBezTo>
                  <a:cubicBezTo>
                    <a:pt x="14185" y="3505"/>
                    <a:pt x="14049" y="3467"/>
                    <a:pt x="13923" y="3480"/>
                  </a:cubicBezTo>
                  <a:cubicBezTo>
                    <a:pt x="13890" y="3484"/>
                    <a:pt x="13855" y="3493"/>
                    <a:pt x="13823" y="3503"/>
                  </a:cubicBezTo>
                  <a:cubicBezTo>
                    <a:pt x="13771" y="3519"/>
                    <a:pt x="13707" y="3543"/>
                    <a:pt x="13668" y="3583"/>
                  </a:cubicBezTo>
                  <a:cubicBezTo>
                    <a:pt x="13653" y="3598"/>
                    <a:pt x="13644" y="3626"/>
                    <a:pt x="13636" y="3634"/>
                  </a:cubicBezTo>
                  <a:cubicBezTo>
                    <a:pt x="13633" y="3635"/>
                    <a:pt x="13629" y="3636"/>
                    <a:pt x="13626" y="3637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04920" y="1676520"/>
            <a:ext cx="3378240" cy="4989240"/>
            <a:chOff x="304920" y="1676520"/>
            <a:chExt cx="3378240" cy="4989240"/>
          </a:xfrm>
        </p:grpSpPr>
        <p:grpSp>
          <p:nvGrpSpPr>
            <p:cNvPr id="53" name=""/>
            <p:cNvGrpSpPr/>
            <p:nvPr/>
          </p:nvGrpSpPr>
          <p:grpSpPr>
            <a:xfrm>
              <a:off x="304920" y="1676520"/>
              <a:ext cx="3378240" cy="4989240"/>
              <a:chOff x="304920" y="1676520"/>
              <a:chExt cx="3378240" cy="4989240"/>
            </a:xfrm>
          </p:grpSpPr>
          <p:sp>
            <p:nvSpPr>
              <p:cNvPr id="54" name=""/>
              <p:cNvSpPr/>
              <p:nvPr/>
            </p:nvSpPr>
            <p:spPr>
              <a:xfrm>
                <a:off x="1143000" y="2895480"/>
                <a:ext cx="39960" cy="71640"/>
              </a:xfrm>
              <a:custGeom>
                <a:avLst/>
                <a:gdLst/>
                <a:ahLst/>
                <a:rect l="l" t="t" r="r" b="b"/>
                <a:pathLst>
                  <a:path w="109" h="199">
                    <a:moveTo>
                      <a:pt x="3242" y="8020"/>
                    </a:moveTo>
                    <a:cubicBezTo>
                      <a:pt x="3238" y="8018"/>
                      <a:pt x="3241" y="8014"/>
                      <a:pt x="3236" y="8014"/>
                    </a:cubicBezTo>
                    <a:cubicBezTo>
                      <a:pt x="3235" y="8014"/>
                      <a:pt x="3227" y="8016"/>
                      <a:pt x="3226" y="8017"/>
                    </a:cubicBezTo>
                    <a:cubicBezTo>
                      <a:pt x="3219" y="8022"/>
                      <a:pt x="3219" y="8030"/>
                      <a:pt x="3216" y="8037"/>
                    </a:cubicBezTo>
                    <a:cubicBezTo>
                      <a:pt x="3211" y="8051"/>
                      <a:pt x="3208" y="8060"/>
                      <a:pt x="3207" y="8075"/>
                    </a:cubicBezTo>
                    <a:cubicBezTo>
                      <a:pt x="3205" y="8102"/>
                      <a:pt x="3206" y="8132"/>
                      <a:pt x="3220" y="8156"/>
                    </a:cubicBezTo>
                    <a:cubicBezTo>
                      <a:pt x="3226" y="8167"/>
                      <a:pt x="3237" y="8178"/>
                      <a:pt x="3249" y="8182"/>
                    </a:cubicBezTo>
                    <a:cubicBezTo>
                      <a:pt x="3261" y="8186"/>
                      <a:pt x="3277" y="8183"/>
                      <a:pt x="3287" y="8175"/>
                    </a:cubicBezTo>
                    <a:cubicBezTo>
                      <a:pt x="3299" y="8166"/>
                      <a:pt x="3300" y="8159"/>
                      <a:pt x="3303" y="8146"/>
                    </a:cubicBezTo>
                    <a:cubicBezTo>
                      <a:pt x="3305" y="8136"/>
                      <a:pt x="3304" y="8121"/>
                      <a:pt x="3299" y="8111"/>
                    </a:cubicBezTo>
                    <a:cubicBezTo>
                      <a:pt x="3293" y="8099"/>
                      <a:pt x="3277" y="8086"/>
                      <a:pt x="3267" y="8078"/>
                    </a:cubicBezTo>
                    <a:cubicBezTo>
                      <a:pt x="3251" y="8065"/>
                      <a:pt x="3236" y="8057"/>
                      <a:pt x="3217" y="8053"/>
                    </a:cubicBezTo>
                    <a:cubicBezTo>
                      <a:pt x="3214" y="8052"/>
                      <a:pt x="3212" y="8052"/>
                      <a:pt x="3209" y="8051"/>
                    </a:cubicBezTo>
                    <a:cubicBezTo>
                      <a:pt x="3198" y="8060"/>
                      <a:pt x="3197" y="8064"/>
                      <a:pt x="3197" y="8078"/>
                    </a:cubicBezTo>
                    <a:cubicBezTo>
                      <a:pt x="3197" y="8093"/>
                      <a:pt x="3201" y="8118"/>
                      <a:pt x="3207" y="8131"/>
                    </a:cubicBezTo>
                    <a:cubicBezTo>
                      <a:pt x="3214" y="8145"/>
                      <a:pt x="3223" y="8162"/>
                      <a:pt x="3236" y="8171"/>
                    </a:cubicBezTo>
                    <a:cubicBezTo>
                      <a:pt x="3239" y="8172"/>
                      <a:pt x="3241" y="8174"/>
                      <a:pt x="3244" y="8175"/>
                    </a:cubicBezTo>
                    <a:cubicBezTo>
                      <a:pt x="3256" y="8178"/>
                      <a:pt x="3263" y="8175"/>
                      <a:pt x="3270" y="8164"/>
                    </a:cubicBezTo>
                    <a:cubicBezTo>
                      <a:pt x="3279" y="8148"/>
                      <a:pt x="3282" y="8129"/>
                      <a:pt x="3283" y="8111"/>
                    </a:cubicBezTo>
                    <a:cubicBezTo>
                      <a:pt x="3283" y="8095"/>
                      <a:pt x="3281" y="8075"/>
                      <a:pt x="3276" y="8060"/>
                    </a:cubicBezTo>
                    <a:cubicBezTo>
                      <a:pt x="3274" y="8053"/>
                      <a:pt x="3266" y="8029"/>
                      <a:pt x="3257" y="8028"/>
                    </a:cubicBezTo>
                    <a:cubicBezTo>
                      <a:pt x="3252" y="8031"/>
                      <a:pt x="3250" y="8032"/>
                      <a:pt x="3247" y="8028"/>
                    </a:cubicBezTo>
                    <a:cubicBezTo>
                      <a:pt x="3237" y="8043"/>
                      <a:pt x="3231" y="8061"/>
                      <a:pt x="3229" y="8080"/>
                    </a:cubicBezTo>
                    <a:cubicBezTo>
                      <a:pt x="3226" y="8107"/>
                      <a:pt x="3225" y="8136"/>
                      <a:pt x="3226" y="8164"/>
                    </a:cubicBezTo>
                    <a:cubicBezTo>
                      <a:pt x="3226" y="8184"/>
                      <a:pt x="3230" y="8195"/>
                      <a:pt x="3240" y="8212"/>
                    </a:cubicBezTo>
                    <a:cubicBezTo>
                      <a:pt x="3259" y="8210"/>
                      <a:pt x="3260" y="8202"/>
                      <a:pt x="3270" y="8186"/>
                    </a:cubicBezTo>
                    <a:cubicBezTo>
                      <a:pt x="3283" y="8165"/>
                      <a:pt x="3290" y="8143"/>
                      <a:pt x="3292" y="8118"/>
                    </a:cubicBezTo>
                    <a:cubicBezTo>
                      <a:pt x="3293" y="8102"/>
                      <a:pt x="3292" y="8081"/>
                      <a:pt x="3279" y="8070"/>
                    </a:cubicBezTo>
                    <a:cubicBezTo>
                      <a:pt x="3276" y="8068"/>
                      <a:pt x="3273" y="8067"/>
                      <a:pt x="3270" y="8065"/>
                    </a:cubicBezTo>
                    <a:cubicBezTo>
                      <a:pt x="3256" y="8066"/>
                      <a:pt x="3239" y="8067"/>
                      <a:pt x="3229" y="8080"/>
                    </a:cubicBezTo>
                    <a:cubicBezTo>
                      <a:pt x="3218" y="8094"/>
                      <a:pt x="3211" y="8114"/>
                      <a:pt x="3219" y="8131"/>
                    </a:cubicBezTo>
                    <a:cubicBezTo>
                      <a:pt x="3219" y="8139"/>
                      <a:pt x="3223" y="8144"/>
                      <a:pt x="3232" y="8148"/>
                    </a:cubicBezTo>
                  </a:path>
                </a:pathLst>
              </a:custGeom>
              <a:noFill/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304920" y="1676520"/>
                <a:ext cx="3378240" cy="4989240"/>
                <a:chOff x="304920" y="1676520"/>
                <a:chExt cx="3378240" cy="498924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304920" y="1676520"/>
                  <a:ext cx="3378240" cy="4989240"/>
                  <a:chOff x="304920" y="1676520"/>
                  <a:chExt cx="3378240" cy="4989240"/>
                </a:xfrm>
              </p:grpSpPr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1676520"/>
                    <a:ext cx="337824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" name=""/>
                  <p:cNvSpPr/>
                  <p:nvPr/>
                </p:nvSpPr>
                <p:spPr>
                  <a:xfrm>
                    <a:off x="1185840" y="2908440"/>
                    <a:ext cx="1928880" cy="345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361" h="9607">
                        <a:moveTo>
                          <a:pt x="3293" y="8259"/>
                        </a:moveTo>
                        <a:cubicBezTo>
                          <a:pt x="3319" y="8370"/>
                          <a:pt x="3343" y="8465"/>
                          <a:pt x="3358" y="8580"/>
                        </a:cubicBezTo>
                        <a:cubicBezTo>
                          <a:pt x="3399" y="8897"/>
                          <a:pt x="3356" y="9219"/>
                          <a:pt x="3431" y="9531"/>
                        </a:cubicBezTo>
                        <a:cubicBezTo>
                          <a:pt x="3527" y="9930"/>
                          <a:pt x="3583" y="10321"/>
                          <a:pt x="3634" y="10729"/>
                        </a:cubicBezTo>
                        <a:cubicBezTo>
                          <a:pt x="3688" y="11160"/>
                          <a:pt x="3745" y="11600"/>
                          <a:pt x="3835" y="12024"/>
                        </a:cubicBezTo>
                        <a:cubicBezTo>
                          <a:pt x="3862" y="12149"/>
                          <a:pt x="3885" y="12274"/>
                          <a:pt x="3913" y="12400"/>
                        </a:cubicBezTo>
                        <a:cubicBezTo>
                          <a:pt x="3943" y="12537"/>
                          <a:pt x="3982" y="12673"/>
                          <a:pt x="4013" y="12811"/>
                        </a:cubicBezTo>
                        <a:cubicBezTo>
                          <a:pt x="4086" y="13140"/>
                          <a:pt x="4119" y="13476"/>
                          <a:pt x="4188" y="13803"/>
                        </a:cubicBezTo>
                        <a:cubicBezTo>
                          <a:pt x="4249" y="14090"/>
                          <a:pt x="4357" y="14358"/>
                          <a:pt x="4440" y="14638"/>
                        </a:cubicBezTo>
                        <a:cubicBezTo>
                          <a:pt x="4517" y="14898"/>
                          <a:pt x="4578" y="15165"/>
                          <a:pt x="4642" y="15428"/>
                        </a:cubicBezTo>
                        <a:cubicBezTo>
                          <a:pt x="4752" y="15879"/>
                          <a:pt x="4842" y="16323"/>
                          <a:pt x="5029" y="16747"/>
                        </a:cubicBezTo>
                        <a:cubicBezTo>
                          <a:pt x="5128" y="16972"/>
                          <a:pt x="5241" y="17186"/>
                          <a:pt x="5401" y="17376"/>
                        </a:cubicBezTo>
                        <a:cubicBezTo>
                          <a:pt x="5496" y="17488"/>
                          <a:pt x="5641" y="17654"/>
                          <a:pt x="5788" y="17684"/>
                        </a:cubicBezTo>
                        <a:cubicBezTo>
                          <a:pt x="5837" y="17694"/>
                          <a:pt x="6044" y="17672"/>
                          <a:pt x="6087" y="17652"/>
                        </a:cubicBezTo>
                        <a:cubicBezTo>
                          <a:pt x="6170" y="17614"/>
                          <a:pt x="6295" y="17481"/>
                          <a:pt x="6355" y="17412"/>
                        </a:cubicBezTo>
                        <a:cubicBezTo>
                          <a:pt x="6437" y="17318"/>
                          <a:pt x="6539" y="17172"/>
                          <a:pt x="6593" y="17060"/>
                        </a:cubicBezTo>
                        <a:cubicBezTo>
                          <a:pt x="6674" y="16890"/>
                          <a:pt x="6744" y="16687"/>
                          <a:pt x="6810" y="16507"/>
                        </a:cubicBezTo>
                        <a:cubicBezTo>
                          <a:pt x="6891" y="16285"/>
                          <a:pt x="6969" y="16082"/>
                          <a:pt x="7069" y="15868"/>
                        </a:cubicBezTo>
                        <a:cubicBezTo>
                          <a:pt x="7204" y="15579"/>
                          <a:pt x="7294" y="15260"/>
                          <a:pt x="7373" y="14951"/>
                        </a:cubicBezTo>
                        <a:cubicBezTo>
                          <a:pt x="7457" y="14621"/>
                          <a:pt x="7507" y="14276"/>
                          <a:pt x="7557" y="13940"/>
                        </a:cubicBezTo>
                        <a:cubicBezTo>
                          <a:pt x="7616" y="13544"/>
                          <a:pt x="7720" y="13162"/>
                          <a:pt x="7802" y="12770"/>
                        </a:cubicBezTo>
                        <a:cubicBezTo>
                          <a:pt x="7920" y="12209"/>
                          <a:pt x="8079" y="11654"/>
                          <a:pt x="8167" y="11089"/>
                        </a:cubicBezTo>
                        <a:cubicBezTo>
                          <a:pt x="8255" y="10520"/>
                          <a:pt x="8380" y="9955"/>
                          <a:pt x="8463" y="9387"/>
                        </a:cubicBezTo>
                        <a:cubicBezTo>
                          <a:pt x="8497" y="9158"/>
                          <a:pt x="8494" y="8922"/>
                          <a:pt x="8533" y="8696"/>
                        </a:cubicBezTo>
                        <a:cubicBezTo>
                          <a:pt x="8548" y="8609"/>
                          <a:pt x="8578" y="8529"/>
                          <a:pt x="8593" y="8441"/>
                        </a:cubicBezTo>
                        <a:cubicBezTo>
                          <a:pt x="8612" y="8332"/>
                          <a:pt x="8635" y="8168"/>
                          <a:pt x="8650" y="8088"/>
                        </a:cubicBezTo>
                        <a:cubicBezTo>
                          <a:pt x="8648" y="8108"/>
                          <a:pt x="8648" y="8115"/>
                          <a:pt x="8646" y="8135"/>
                        </a:cubicBezTo>
                      </a:path>
                    </a:pathLst>
                  </a:custGeom>
                  <a:noFill/>
                  <a:ln cap="rnd"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" name=""/>
                <p:cNvSpPr/>
                <p:nvPr/>
              </p:nvSpPr>
              <p:spPr>
                <a:xfrm>
                  <a:off x="3081240" y="2863800"/>
                  <a:ext cx="60480" cy="77760"/>
                </a:xfrm>
                <a:custGeom>
                  <a:avLst/>
                  <a:gdLst/>
                  <a:ahLst/>
                  <a:rect l="l" t="t" r="r" b="b"/>
                  <a:pathLst>
                    <a:path w="166" h="219">
                      <a:moveTo>
                        <a:pt x="8722" y="7977"/>
                      </a:moveTo>
                      <a:cubicBezTo>
                        <a:pt x="8718" y="7972"/>
                        <a:pt x="8718" y="7966"/>
                        <a:pt x="8713" y="7963"/>
                      </a:cubicBezTo>
                      <a:cubicBezTo>
                        <a:pt x="8708" y="7959"/>
                        <a:pt x="8702" y="7956"/>
                        <a:pt x="8696" y="7954"/>
                      </a:cubicBezTo>
                      <a:cubicBezTo>
                        <a:pt x="8685" y="7951"/>
                        <a:pt x="8665" y="7957"/>
                        <a:pt x="8655" y="7961"/>
                      </a:cubicBezTo>
                      <a:cubicBezTo>
                        <a:pt x="8640" y="7967"/>
                        <a:pt x="8622" y="7978"/>
                        <a:pt x="8610" y="7988"/>
                      </a:cubicBezTo>
                      <a:cubicBezTo>
                        <a:pt x="8597" y="7998"/>
                        <a:pt x="8583" y="8012"/>
                        <a:pt x="8574" y="8025"/>
                      </a:cubicBezTo>
                      <a:cubicBezTo>
                        <a:pt x="8564" y="8039"/>
                        <a:pt x="8561" y="8058"/>
                        <a:pt x="8560" y="8075"/>
                      </a:cubicBezTo>
                      <a:cubicBezTo>
                        <a:pt x="8559" y="8094"/>
                        <a:pt x="8565" y="8110"/>
                        <a:pt x="8573" y="8127"/>
                      </a:cubicBezTo>
                      <a:cubicBezTo>
                        <a:pt x="8580" y="8141"/>
                        <a:pt x="8595" y="8155"/>
                        <a:pt x="8609" y="8161"/>
                      </a:cubicBezTo>
                      <a:cubicBezTo>
                        <a:pt x="8624" y="8168"/>
                        <a:pt x="8646" y="8166"/>
                        <a:pt x="8660" y="8158"/>
                      </a:cubicBezTo>
                      <a:cubicBezTo>
                        <a:pt x="8685" y="8143"/>
                        <a:pt x="8700" y="8114"/>
                        <a:pt x="8712" y="8088"/>
                      </a:cubicBezTo>
                      <a:cubicBezTo>
                        <a:pt x="8722" y="8066"/>
                        <a:pt x="8726" y="8042"/>
                        <a:pt x="8725" y="8018"/>
                      </a:cubicBezTo>
                      <a:cubicBezTo>
                        <a:pt x="8724" y="7997"/>
                        <a:pt x="8720" y="7986"/>
                        <a:pt x="8703" y="7974"/>
                      </a:cubicBezTo>
                      <a:cubicBezTo>
                        <a:pt x="8687" y="7963"/>
                        <a:pt x="8676" y="7975"/>
                        <a:pt x="8666" y="7986"/>
                      </a:cubicBezTo>
                      <a:cubicBezTo>
                        <a:pt x="8649" y="8004"/>
                        <a:pt x="8639" y="8030"/>
                        <a:pt x="8633" y="8054"/>
                      </a:cubicBezTo>
                      <a:cubicBezTo>
                        <a:pt x="8627" y="8081"/>
                        <a:pt x="8629" y="8106"/>
                        <a:pt x="8636" y="8132"/>
                      </a:cubicBezTo>
                      <a:cubicBezTo>
                        <a:pt x="8640" y="8145"/>
                        <a:pt x="8647" y="8167"/>
                        <a:pt x="8662" y="8171"/>
                      </a:cubicBezTo>
                      <a:cubicBezTo>
                        <a:pt x="8678" y="8176"/>
                        <a:pt x="8694" y="8161"/>
                        <a:pt x="8702" y="8149"/>
                      </a:cubicBezTo>
                      <a:cubicBezTo>
                        <a:pt x="8715" y="8129"/>
                        <a:pt x="8720" y="8104"/>
                        <a:pt x="8723" y="8082"/>
                      </a:cubicBezTo>
                      <a:cubicBezTo>
                        <a:pt x="8725" y="8066"/>
                        <a:pt x="8724" y="8056"/>
                        <a:pt x="8721" y="8041"/>
                      </a:cubicBezTo>
                      <a:cubicBezTo>
                        <a:pt x="8709" y="8044"/>
                        <a:pt x="8708" y="8045"/>
                        <a:pt x="8702" y="8058"/>
                      </a:cubicBezTo>
                      <a:cubicBezTo>
                        <a:pt x="8697" y="8068"/>
                        <a:pt x="8693" y="8080"/>
                        <a:pt x="8701" y="8088"/>
                      </a:cubicBezTo>
                      <a:cubicBezTo>
                        <a:pt x="8706" y="8094"/>
                        <a:pt x="8711" y="8093"/>
                        <a:pt x="8716" y="8099"/>
                      </a:cubicBezTo>
                      <a:cubicBezTo>
                        <a:pt x="8719" y="8103"/>
                        <a:pt x="8722" y="8108"/>
                        <a:pt x="8725" y="8112"/>
                      </a:cubicBezTo>
                    </a:path>
                  </a:pathLst>
                </a:custGeom>
                <a:noFill/>
                <a:ln cap="rnd"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" name=""/>
            <p:cNvSpPr/>
            <p:nvPr/>
          </p:nvSpPr>
          <p:spPr>
            <a:xfrm>
              <a:off x="1152360" y="2884320"/>
              <a:ext cx="173160" cy="949320"/>
            </a:xfrm>
            <a:custGeom>
              <a:avLst/>
              <a:gdLst/>
              <a:ahLst/>
              <a:rect l="l" t="t" r="r" b="b"/>
              <a:pathLst>
                <a:path w="481" h="2635">
                  <a:moveTo>
                    <a:pt x="3265" y="8014"/>
                  </a:moveTo>
                  <a:cubicBezTo>
                    <a:pt x="3260" y="8019"/>
                    <a:pt x="3252" y="8019"/>
                    <a:pt x="3249" y="8023"/>
                  </a:cubicBezTo>
                  <a:cubicBezTo>
                    <a:pt x="3243" y="8030"/>
                    <a:pt x="3235" y="8037"/>
                    <a:pt x="3230" y="8045"/>
                  </a:cubicBezTo>
                  <a:cubicBezTo>
                    <a:pt x="3222" y="8058"/>
                    <a:pt x="3218" y="8070"/>
                    <a:pt x="3213" y="8084"/>
                  </a:cubicBezTo>
                  <a:cubicBezTo>
                    <a:pt x="3206" y="8103"/>
                    <a:pt x="3201" y="8128"/>
                    <a:pt x="3200" y="8149"/>
                  </a:cubicBezTo>
                  <a:cubicBezTo>
                    <a:pt x="3199" y="8174"/>
                    <a:pt x="3199" y="8208"/>
                    <a:pt x="3207" y="8232"/>
                  </a:cubicBezTo>
                  <a:cubicBezTo>
                    <a:pt x="3218" y="8266"/>
                    <a:pt x="3234" y="8298"/>
                    <a:pt x="3270" y="8287"/>
                  </a:cubicBezTo>
                  <a:cubicBezTo>
                    <a:pt x="3306" y="8275"/>
                    <a:pt x="3304" y="8229"/>
                    <a:pt x="3300" y="8198"/>
                  </a:cubicBezTo>
                  <a:cubicBezTo>
                    <a:pt x="3298" y="8178"/>
                    <a:pt x="3292" y="8162"/>
                    <a:pt x="3283" y="8145"/>
                  </a:cubicBezTo>
                  <a:cubicBezTo>
                    <a:pt x="3278" y="8135"/>
                    <a:pt x="3268" y="8113"/>
                    <a:pt x="3256" y="8108"/>
                  </a:cubicBezTo>
                  <a:cubicBezTo>
                    <a:pt x="3218" y="8092"/>
                    <a:pt x="3204" y="8112"/>
                    <a:pt x="3206" y="8149"/>
                  </a:cubicBezTo>
                  <a:cubicBezTo>
                    <a:pt x="3208" y="8188"/>
                    <a:pt x="3230" y="8224"/>
                    <a:pt x="3270" y="8233"/>
                  </a:cubicBezTo>
                  <a:cubicBezTo>
                    <a:pt x="3285" y="8236"/>
                    <a:pt x="3307" y="8231"/>
                    <a:pt x="3319" y="8222"/>
                  </a:cubicBezTo>
                  <a:cubicBezTo>
                    <a:pt x="3329" y="8215"/>
                    <a:pt x="3339" y="8201"/>
                    <a:pt x="3341" y="8189"/>
                  </a:cubicBezTo>
                  <a:cubicBezTo>
                    <a:pt x="3348" y="8147"/>
                    <a:pt x="3284" y="8116"/>
                    <a:pt x="3250" y="8118"/>
                  </a:cubicBezTo>
                  <a:cubicBezTo>
                    <a:pt x="3214" y="8120"/>
                    <a:pt x="3199" y="8138"/>
                    <a:pt x="3216" y="8173"/>
                  </a:cubicBezTo>
                  <a:cubicBezTo>
                    <a:pt x="3225" y="8192"/>
                    <a:pt x="3235" y="8207"/>
                    <a:pt x="3257" y="8212"/>
                  </a:cubicBezTo>
                  <a:cubicBezTo>
                    <a:pt x="3280" y="8218"/>
                    <a:pt x="3294" y="8210"/>
                    <a:pt x="3313" y="8199"/>
                  </a:cubicBezTo>
                  <a:cubicBezTo>
                    <a:pt x="3334" y="8187"/>
                    <a:pt x="3346" y="8170"/>
                    <a:pt x="3353" y="8148"/>
                  </a:cubicBezTo>
                  <a:cubicBezTo>
                    <a:pt x="3360" y="8125"/>
                    <a:pt x="3354" y="8110"/>
                    <a:pt x="3345" y="8088"/>
                  </a:cubicBezTo>
                  <a:cubicBezTo>
                    <a:pt x="3337" y="8070"/>
                    <a:pt x="3316" y="8056"/>
                    <a:pt x="3299" y="8048"/>
                  </a:cubicBezTo>
                  <a:cubicBezTo>
                    <a:pt x="3289" y="8043"/>
                    <a:pt x="3260" y="8034"/>
                    <a:pt x="3249" y="8041"/>
                  </a:cubicBezTo>
                  <a:cubicBezTo>
                    <a:pt x="3217" y="8062"/>
                    <a:pt x="3219" y="8112"/>
                    <a:pt x="3230" y="8146"/>
                  </a:cubicBezTo>
                  <a:cubicBezTo>
                    <a:pt x="3239" y="8174"/>
                    <a:pt x="3258" y="8209"/>
                    <a:pt x="3292" y="8189"/>
                  </a:cubicBezTo>
                  <a:cubicBezTo>
                    <a:pt x="3302" y="8183"/>
                    <a:pt x="3309" y="8170"/>
                    <a:pt x="3309" y="8158"/>
                  </a:cubicBezTo>
                  <a:cubicBezTo>
                    <a:pt x="3309" y="8130"/>
                    <a:pt x="3284" y="8120"/>
                    <a:pt x="3266" y="8109"/>
                  </a:cubicBezTo>
                  <a:cubicBezTo>
                    <a:pt x="3261" y="8106"/>
                    <a:pt x="3249" y="8112"/>
                    <a:pt x="3249" y="8112"/>
                  </a:cubicBezTo>
                  <a:cubicBezTo>
                    <a:pt x="3254" y="8129"/>
                    <a:pt x="3255" y="8144"/>
                    <a:pt x="3262" y="8161"/>
                  </a:cubicBezTo>
                  <a:cubicBezTo>
                    <a:pt x="3268" y="8177"/>
                    <a:pt x="3277" y="8193"/>
                    <a:pt x="3283" y="8209"/>
                  </a:cubicBezTo>
                  <a:cubicBezTo>
                    <a:pt x="3289" y="8224"/>
                    <a:pt x="3295" y="8237"/>
                    <a:pt x="3299" y="8253"/>
                  </a:cubicBezTo>
                  <a:cubicBezTo>
                    <a:pt x="3308" y="8288"/>
                    <a:pt x="3308" y="8325"/>
                    <a:pt x="3315" y="8361"/>
                  </a:cubicBezTo>
                  <a:cubicBezTo>
                    <a:pt x="3325" y="8410"/>
                    <a:pt x="3342" y="8457"/>
                    <a:pt x="3358" y="8504"/>
                  </a:cubicBezTo>
                  <a:cubicBezTo>
                    <a:pt x="3364" y="8521"/>
                    <a:pt x="3370" y="8538"/>
                    <a:pt x="3375" y="8555"/>
                  </a:cubicBezTo>
                  <a:cubicBezTo>
                    <a:pt x="3380" y="8574"/>
                    <a:pt x="3384" y="8591"/>
                    <a:pt x="3388" y="8610"/>
                  </a:cubicBezTo>
                  <a:cubicBezTo>
                    <a:pt x="3403" y="8690"/>
                    <a:pt x="3394" y="8769"/>
                    <a:pt x="3412" y="8849"/>
                  </a:cubicBezTo>
                  <a:cubicBezTo>
                    <a:pt x="3419" y="8879"/>
                    <a:pt x="3424" y="8908"/>
                    <a:pt x="3429" y="8938"/>
                  </a:cubicBezTo>
                  <a:cubicBezTo>
                    <a:pt x="3438" y="8991"/>
                    <a:pt x="3444" y="9044"/>
                    <a:pt x="3452" y="9097"/>
                  </a:cubicBezTo>
                  <a:cubicBezTo>
                    <a:pt x="3457" y="9132"/>
                    <a:pt x="3460" y="9167"/>
                    <a:pt x="3465" y="9201"/>
                  </a:cubicBezTo>
                  <a:cubicBezTo>
                    <a:pt x="3479" y="9302"/>
                    <a:pt x="3494" y="9404"/>
                    <a:pt x="3510" y="9505"/>
                  </a:cubicBezTo>
                  <a:cubicBezTo>
                    <a:pt x="3513" y="9526"/>
                    <a:pt x="3515" y="9548"/>
                    <a:pt x="3520" y="9569"/>
                  </a:cubicBezTo>
                  <a:cubicBezTo>
                    <a:pt x="3545" y="9681"/>
                    <a:pt x="3577" y="9789"/>
                    <a:pt x="3587" y="9905"/>
                  </a:cubicBezTo>
                  <a:cubicBezTo>
                    <a:pt x="3592" y="9964"/>
                    <a:pt x="3597" y="10023"/>
                    <a:pt x="3601" y="10082"/>
                  </a:cubicBezTo>
                  <a:cubicBezTo>
                    <a:pt x="3603" y="10121"/>
                    <a:pt x="3604" y="10159"/>
                    <a:pt x="3607" y="10198"/>
                  </a:cubicBezTo>
                  <a:cubicBezTo>
                    <a:pt x="3611" y="10256"/>
                    <a:pt x="3621" y="10312"/>
                    <a:pt x="3627" y="10369"/>
                  </a:cubicBezTo>
                  <a:cubicBezTo>
                    <a:pt x="3637" y="10465"/>
                    <a:pt x="3652" y="10557"/>
                    <a:pt x="3680" y="10648"/>
                  </a:cubicBezTo>
                </a:path>
              </a:pathLst>
            </a:custGeom>
            <a:noFill/>
            <a:ln cap="rnd"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4796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5156280" cy="587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8134560" cy="56196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4572000" y="1676520"/>
            <a:ext cx="4103640" cy="3879720"/>
            <a:chOff x="4572000" y="1676520"/>
            <a:chExt cx="4103640" cy="38797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4572000" y="1676520"/>
              <a:ext cx="151920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5029200" y="2133720"/>
              <a:ext cx="3646440" cy="34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28600" y="1752480"/>
            <a:ext cx="3503520" cy="4665960"/>
            <a:chOff x="228600" y="1752480"/>
            <a:chExt cx="3503520" cy="4665960"/>
          </a:xfrm>
        </p:grpSpPr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533520" y="1905120"/>
              <a:ext cx="3198600" cy="451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228600" y="1752480"/>
              <a:ext cx="142884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4572000" y="5791320"/>
            <a:ext cx="40384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3T22:03:01Z</dcterms:modified>
  <cp:revision>5</cp:revision>
  <dc:subject/>
  <dc:title>Slide 1</dc:title>
</cp:coreProperties>
</file>